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D87B-C686-47CE-A20C-465BD7BF5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52BB-E336-4058-89E7-39DE2120D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1A26-29E0-4550-95CD-C1E4AD61D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F9AB-854F-4BC5-B518-506DD3C8E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3C33-057E-4B4E-9A76-B9AA1181F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07A5-6E63-4973-9DBF-826C57078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666F-B1CA-4DE6-977D-69C3CD0E6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1156-CCBF-4894-AC36-04E88890B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A939-2F08-4FD6-8B2A-807BEAEBE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F208-5CD0-4C98-8F01-EC65A5A4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73C4-7366-47EC-A60A-98BA49C6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815C-B6F7-4F50-960B-9F92E13F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C6D1B-9034-4704-A65A-BFE13EF2B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51814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9:06:53Z</dcterms:created>
  <dc:creator>St. Jude School</dc:creator>
  <dc:description/>
  <dc:language>en-US</dc:language>
  <cp:lastModifiedBy>St. Jude School</cp:lastModifiedBy>
  <dcterms:modified xsi:type="dcterms:W3CDTF">2010-01-11T19:07:37Z</dcterms:modified>
  <cp:revision>1</cp:revision>
  <dc:subject/>
  <dc:title>Slide 1</dc:title>
</cp:coreProperties>
</file>